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0.jpeg" ContentType="image/jpeg"/>
  <Override PartName="/ppt/media/image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5327650"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0" y="-360"/>
            <a:ext cx="3076560" cy="51444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4"/>
          </p:nvPr>
        </p:nvSpPr>
        <p:spPr>
          <a:xfrm>
            <a:off x="4021200" y="-360"/>
            <a:ext cx="3076560" cy="514440"/>
          </a:xfrm>
          <a:prstGeom prst="rect">
            <a:avLst/>
          </a:prstGeom>
          <a:noFill/>
          <a:ln w="0">
            <a:noFill/>
          </a:ln>
        </p:spPr>
        <p:txBody>
          <a:bodyPr lIns="94320" rIns="94320" tIns="47160" bIns="47160" anchor="t">
            <a:noAutofit/>
          </a:bodyPr>
          <a:lstStyle>
            <a:lvl1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Calibri"/>
              </a:defRPr>
            </a:lvl1pPr>
          </a:lstStyle>
          <a:p>
            <a: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2197080" y="767880"/>
            <a:ext cx="2705040" cy="3837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1" name="PlaceHolder 4"/>
          <p:cNvSpPr>
            <a:spLocks noGrp="1"/>
          </p:cNvSpPr>
          <p:nvPr>
            <p:ph type="body"/>
          </p:nvPr>
        </p:nvSpPr>
        <p:spPr>
          <a:xfrm>
            <a:off x="707760" y="4861080"/>
            <a:ext cx="5683320" cy="46051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5"/>
          </p:nvPr>
        </p:nvSpPr>
        <p:spPr>
          <a:xfrm>
            <a:off x="0" y="9718200"/>
            <a:ext cx="3076560" cy="51444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6"/>
          </p:nvPr>
        </p:nvSpPr>
        <p:spPr>
          <a:xfrm>
            <a:off x="4021200" y="9718200"/>
            <a:ext cx="3076560" cy="514440"/>
          </a:xfrm>
          <a:prstGeom prst="rect">
            <a:avLst/>
          </a:prstGeom>
          <a:noFill/>
          <a:ln w="0">
            <a:noFill/>
          </a:ln>
        </p:spPr>
        <p:txBody>
          <a:bodyPr lIns="94320" rIns="94320" tIns="47160" bIns="47160" anchor="b">
            <a:noAutofit/>
          </a:bodyPr>
          <a:lstStyle>
            <a:lvl1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Calibri"/>
              </a:defRPr>
            </a:lvl1pPr>
          </a:lstStyle>
          <a:p>
            <a: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6506008-4954-439F-8F4A-7E7EEACCEA9D}"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2197080" y="768240"/>
            <a:ext cx="2705040" cy="3837240"/>
          </a:xfrm>
          <a:prstGeom prst="rect">
            <a:avLst/>
          </a:prstGeom>
          <a:ln w="0">
            <a:noFill/>
          </a:ln>
        </p:spPr>
      </p:sp>
      <p:sp>
        <p:nvSpPr>
          <p:cNvPr id="580" name="PlaceHolder 2"/>
          <p:cNvSpPr>
            <a:spLocks noGrp="1"/>
          </p:cNvSpPr>
          <p:nvPr>
            <p:ph type="body"/>
          </p:nvPr>
        </p:nvSpPr>
        <p:spPr>
          <a:xfrm>
            <a:off x="70776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81" name="Espace réservé du numéro de diapositive 3"/>
          <p:cNvSpPr/>
          <p:nvPr/>
        </p:nvSpPr>
        <p:spPr>
          <a:xfrm>
            <a:off x="4021200" y="9718560"/>
            <a:ext cx="3076560" cy="5144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F05F210-436D-4687-8F4B-D93891D4900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2197080" y="768240"/>
            <a:ext cx="2705040" cy="3837240"/>
          </a:xfrm>
          <a:prstGeom prst="rect">
            <a:avLst/>
          </a:prstGeom>
          <a:ln w="0">
            <a:noFill/>
          </a:ln>
        </p:spPr>
      </p:sp>
      <p:sp>
        <p:nvSpPr>
          <p:cNvPr id="583" name="PlaceHolder 2"/>
          <p:cNvSpPr>
            <a:spLocks noGrp="1"/>
          </p:cNvSpPr>
          <p:nvPr>
            <p:ph type="body"/>
          </p:nvPr>
        </p:nvSpPr>
        <p:spPr>
          <a:xfrm>
            <a:off x="70776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84" name="Espace réservé du numéro de diapositive 3"/>
          <p:cNvSpPr/>
          <p:nvPr/>
        </p:nvSpPr>
        <p:spPr>
          <a:xfrm>
            <a:off x="4021200" y="9718560"/>
            <a:ext cx="3076560" cy="5144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97CE1DF-5824-41F8-9DE3-3D03F8896E2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2197080" y="768240"/>
            <a:ext cx="2705040" cy="3837240"/>
          </a:xfrm>
          <a:prstGeom prst="rect">
            <a:avLst/>
          </a:prstGeom>
          <a:ln w="0">
            <a:noFill/>
          </a:ln>
        </p:spPr>
      </p:sp>
      <p:sp>
        <p:nvSpPr>
          <p:cNvPr id="586" name="PlaceHolder 2"/>
          <p:cNvSpPr>
            <a:spLocks noGrp="1"/>
          </p:cNvSpPr>
          <p:nvPr>
            <p:ph type="body"/>
          </p:nvPr>
        </p:nvSpPr>
        <p:spPr>
          <a:xfrm>
            <a:off x="70776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87" name="Espace réservé du numéro de diapositive 3"/>
          <p:cNvSpPr/>
          <p:nvPr/>
        </p:nvSpPr>
        <p:spPr>
          <a:xfrm>
            <a:off x="4021200" y="9718560"/>
            <a:ext cx="3076560" cy="5144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219FEC9-259F-42BB-9151-F55FE6FB7CA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2197080" y="768240"/>
            <a:ext cx="2705040" cy="3837240"/>
          </a:xfrm>
          <a:prstGeom prst="rect">
            <a:avLst/>
          </a:prstGeom>
          <a:ln w="0">
            <a:noFill/>
          </a:ln>
        </p:spPr>
      </p:sp>
      <p:sp>
        <p:nvSpPr>
          <p:cNvPr id="589" name="PlaceHolder 2"/>
          <p:cNvSpPr>
            <a:spLocks noGrp="1"/>
          </p:cNvSpPr>
          <p:nvPr>
            <p:ph type="body"/>
          </p:nvPr>
        </p:nvSpPr>
        <p:spPr>
          <a:xfrm>
            <a:off x="70776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90" name="Espace réservé du numéro de diapositive 3"/>
          <p:cNvSpPr/>
          <p:nvPr/>
        </p:nvSpPr>
        <p:spPr>
          <a:xfrm>
            <a:off x="4021200" y="9718560"/>
            <a:ext cx="3076560" cy="5144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BEC213B-E83C-480C-9711-67B60531B16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2197080" y="768240"/>
            <a:ext cx="2705040" cy="3837240"/>
          </a:xfrm>
          <a:prstGeom prst="rect">
            <a:avLst/>
          </a:prstGeom>
          <a:ln w="0">
            <a:noFill/>
          </a:ln>
        </p:spPr>
      </p:sp>
      <p:sp>
        <p:nvSpPr>
          <p:cNvPr id="592" name="PlaceHolder 2"/>
          <p:cNvSpPr>
            <a:spLocks noGrp="1"/>
          </p:cNvSpPr>
          <p:nvPr>
            <p:ph type="body"/>
          </p:nvPr>
        </p:nvSpPr>
        <p:spPr>
          <a:xfrm>
            <a:off x="70776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93" name="Espace réservé du numéro de diapositive 3"/>
          <p:cNvSpPr/>
          <p:nvPr/>
        </p:nvSpPr>
        <p:spPr>
          <a:xfrm>
            <a:off x="4021200" y="9718560"/>
            <a:ext cx="3076560" cy="5144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3CBF32B-FA28-4802-B8AD-93C902E700A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2197080" y="768240"/>
            <a:ext cx="2705040" cy="3837240"/>
          </a:xfrm>
          <a:prstGeom prst="rect">
            <a:avLst/>
          </a:prstGeom>
          <a:ln w="0">
            <a:noFill/>
          </a:ln>
        </p:spPr>
      </p:sp>
      <p:sp>
        <p:nvSpPr>
          <p:cNvPr id="595" name="PlaceHolder 2"/>
          <p:cNvSpPr>
            <a:spLocks noGrp="1"/>
          </p:cNvSpPr>
          <p:nvPr>
            <p:ph type="body"/>
          </p:nvPr>
        </p:nvSpPr>
        <p:spPr>
          <a:xfrm>
            <a:off x="70776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96" name="Espace réservé du numéro de diapositive 3"/>
          <p:cNvSpPr/>
          <p:nvPr/>
        </p:nvSpPr>
        <p:spPr>
          <a:xfrm>
            <a:off x="4021200" y="9718560"/>
            <a:ext cx="3076560" cy="5144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4518CB9-89BD-45B5-BB82-4AE492A2464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68E7DD-44C5-4FFB-9560-3E5DB878DF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C36B5-E6EE-4CE3-8E0F-1BEBCCD481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028FA-5EED-4773-B79D-5230FA9881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13E5B-CBB5-4C73-BD49-326606D89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F1CE03-C182-4BF7-9D0F-551A8971A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3B134-2B8F-4EAA-B12A-409AAB5E0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9B9A71-1B0E-4A2D-8389-BCA00CF030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F74E0E-AD5B-4EF9-8C61-EF2EF61ABD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528399-DAFE-4AD5-964D-D80018F748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FD8EF5-365E-45E7-8358-617EB3AE0C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626141-3C49-4E54-AD7F-04CFC824D0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991A8C-7F0A-4EC7-A0FB-9E69855CF1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DB4891-FA7D-46EB-A24D-CFFE2639F2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C1ADB7-E793-4894-8A0D-179399B24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DEF95D-4EAC-441B-A1E2-B866B6FE7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53FEDB-60D1-4CD6-A891-21E05B42F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1918D-D0DD-44ED-BAFF-327D28147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5E3610-B19E-44B3-8008-F81D2FE4D6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857979-6021-4FB4-A671-5A1A624C1E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62071D-1B9B-4BB4-B8F2-2F01A715B0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6E6946-53CC-49AC-9A9B-DA1A802713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FECF01-55F4-4E6F-A333-CDA8C9A286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273D08-87DD-428D-8DC6-6780818CC0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A7E11B-ACEE-4B2E-BC2B-8B82862F32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B58EF5-19DC-460F-A8E1-045C42471C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F8CDCA-2FB7-4BCF-B075-E7C2189588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9F83BC-9997-4CCD-96D8-A0AA223D09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0D6AF9-B78D-437A-AE29-08E7716985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A54E0A-8F21-4658-9321-F989B7E380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F1DC06-C9DF-443C-A33E-20B1009312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736D3-5B37-4BFD-94E5-8985B3777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DAB303-7F16-4B32-A869-CECC4234C0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7B0D594-DEE4-4564-BC99-68C86C3B77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9C2668-DDB2-4395-B66F-8E8B456D59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3E8F4F-11F2-463D-B794-F076004C14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36A3CB-D735-4908-B67D-017A7F52D6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F8B20E-E10C-44D3-9367-2468574FC6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3A5265-476A-4BA9-B9D4-03D5BE466C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BEC488-49F9-4583-8B59-D07341530D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0F1B2F-000B-442A-9929-188BE45FF0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7FE8FC-E59E-4925-B3F0-54A5FF3B02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2C0BC-C260-4E22-A7FA-5F2D0ED3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3BEC0F-B029-47AF-BB06-E064F369C4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5BFCBD-D5C2-404B-85A1-71E2F0E89B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23E125-E9B8-447B-9599-1F74CBF3B2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BAED00-55F3-486A-A6BD-BF0362AB3C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624F61-B943-4B3F-8FB9-D04485AD89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A2D97-9138-4EF2-A5D7-E21430174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27183-A2EA-4E0A-847E-FB5A2B7E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1205F-3B58-4D39-93C7-0938B7684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3E457-351E-4FA6-908B-8DDB94A57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CA24D-CDD6-4C48-8DCF-0C705E06B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329D-40EF-4807-BC73-A7BF6B14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533F-9F4E-4A27-97E9-709560163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EF16F-7719-42B2-8EC1-9C7EC7E57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58BBA-4152-499B-A16C-B0F8A1788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C5B98-817C-4DEA-8391-9130594AE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AF8AF-C20D-47CE-AC9D-59267DD06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E403E-734A-4404-91C9-C67FE6E4D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F8409-43C5-410D-B474-BE51812D4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6CB12-C468-48EA-8E44-5500AE241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6FD74-3F95-4739-8CB1-C44093396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C169C-6B29-4C80-A2DA-90C8DD0E6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514F7-86F3-4F50-B9C3-E7B023843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E3E1F-9FFA-416D-8198-DAEFDEF88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EB8BC-A9D4-492D-9A09-5D53FE102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A07CA-6EC6-42EB-8EDC-CCBA7A6F6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EDE1D-7F83-4715-BCC6-4E4A61D44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A2FF7-BB73-4810-8A41-0B953F784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30FE2E-B893-4A80-8BC2-532BB56A16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C49AB-6C60-4C2C-A789-195A5D6519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BB432-0A2D-4025-926A-C30C34C0D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120E0-8854-4AA2-9CEC-0DDD06027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891800-85AB-4ABD-9019-D877D449DC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0F509-2B1F-4483-AE09-29F6C9F13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D65E0-A793-48FD-AC56-AFCC90A5B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B4BA9-6DDD-4F31-A205-57A256942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2549A-A4D2-4A8A-9D38-8A32ADCEE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9AAEE-C6E9-44DA-80E0-FFED5C0D1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71F3DF-8474-433F-8170-E913E2BEB6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3DC790-806A-4725-9F06-D645A314EB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8274F2-02FA-4C6D-9550-A6E982D041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77DC3-3FA8-45BA-9F0D-30FC0EAB0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BE2CC-565B-4AA4-AE1F-4F846A510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BE3EB-880A-4FD7-A2EB-072CF44EF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058122-D753-4E5D-974E-94AEE33415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D7F26-52FB-4A36-BCEF-261212EFA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16E03-034A-4A1E-AFFE-2A514FA2A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629A3-2A4C-4423-8E20-46C3C690E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6C4C9A-7B0B-4B56-8376-6A4F3C4C6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56FB62-F65B-44BB-9DD9-356729108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52AAA6-6DE7-4EA8-8C71-8944343507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C7CBAF-CABC-49E3-9B94-C364C40A0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81C259-FD39-42E7-A504-E11CE52378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7FB0AF-B603-443C-B4D4-745335990F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010532-4D85-48F6-B514-31C4728967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694C4-AE6D-4FFC-9EFB-A52BBF1CA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90C3F9-6B87-4F8E-A4CE-4CFC0230F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48BCC-90D3-41FC-AD68-2DD80F246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8C7C3-5F21-42BC-BCF8-50A591D36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72CE1-1B7D-4C53-86EB-DE0474CB6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AD3F2-D499-4471-845F-B5B86D696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0ABC9-48A0-4445-AC51-C31E496601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D4E049-3514-4D0B-90C1-C9BB55DAE9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7BF0C7-BFF7-43E9-A3B1-C38E601BB5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3A7219-A2B6-4AD3-B55F-48A789F2F5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187258-C706-4D52-948A-AF7C7F50B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A59C4F-E515-4A82-B908-72DA3AB60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71DDD-5CDE-4BEE-AD15-97C2EF60D0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569D06-27E5-4022-B474-906BCDFF9E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504757-CCED-4A18-A7B1-1422A23564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47EEA7-732C-4ED6-831E-4C681FC9B6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B1AE6-B350-4EE3-8B84-7519FD9F3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75F3B0-AE5F-4936-825C-01636E85F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13F98-CB7D-49DE-890D-67C86FA146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815CA0-C257-469A-A235-098320B084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5FD142-EC0B-4B5B-A846-9A7E15F5EA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19FD59-91EE-4A94-A0F0-6A8CAA309B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5D231C-612D-44E7-B0B3-CD1840D7C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193078-45F8-4529-A770-2A370FBAE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BDA5EC-D15E-41A1-9FB5-38253FBAA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7E801C-0FE1-4D10-AF80-EF7F7B0AC3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266400" y="301320"/>
            <a:ext cx="4794840" cy="585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E53E2F-43AD-4718-BF4E-9C13A495F8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2723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CB7835-5CBC-4AC6-A8FE-497B1C9E74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266400" y="1769040"/>
            <a:ext cx="23396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D66391-A6F8-440D-9D27-9E000C748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10D7D-D152-428D-8AE9-FCEDD440B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266400" y="176904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266400" y="4059360"/>
            <a:ext cx="47948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A95D46-527A-4AF8-96C0-CBCCD7C6F1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266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2723400" y="176904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266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5"/>
          <p:cNvSpPr>
            <a:spLocks noGrp="1"/>
          </p:cNvSpPr>
          <p:nvPr>
            <p:ph/>
          </p:nvPr>
        </p:nvSpPr>
        <p:spPr>
          <a:xfrm>
            <a:off x="2723400" y="4059360"/>
            <a:ext cx="233964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A984E7-C2D0-4894-8F8B-4AA2996463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26640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188748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3508920" y="176904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26640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6"/>
          <p:cNvSpPr>
            <a:spLocks noGrp="1"/>
          </p:cNvSpPr>
          <p:nvPr>
            <p:ph/>
          </p:nvPr>
        </p:nvSpPr>
        <p:spPr>
          <a:xfrm>
            <a:off x="188748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7"/>
          <p:cNvSpPr>
            <a:spLocks noGrp="1"/>
          </p:cNvSpPr>
          <p:nvPr>
            <p:ph/>
          </p:nvPr>
        </p:nvSpPr>
        <p:spPr>
          <a:xfrm>
            <a:off x="3508920" y="4059360"/>
            <a:ext cx="1543680" cy="209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1D13CE-73CB-430D-820E-505C7E5CDF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D7916B-B8C1-4F33-9B17-6DFFE61032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type="subTitle"/>
          </p:nvPr>
        </p:nvSpPr>
        <p:spPr>
          <a:xfrm>
            <a:off x="266400" y="1769040"/>
            <a:ext cx="4794840" cy="438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57212F-A8B0-4FB7-93FC-8DFA2A9A68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266400" y="1769040"/>
            <a:ext cx="4794840" cy="43844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E74664-1A66-4A6B-A1E6-C6B3221FDA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1"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34A1-D1FA-49AE-98D1-3AC0742A162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4" name="Image 11" descr="LOGO4.jpg"/>
          <p:cNvPicPr/>
          <p:nvPr/>
        </p:nvPicPr>
        <p:blipFill>
          <a:blip r:embed="rId3"/>
          <a:stretch/>
        </p:blipFill>
        <p:spPr>
          <a:xfrm>
            <a:off x="0" y="965160"/>
            <a:ext cx="5329080" cy="59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396"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52A2-3892-4994-B0F2-03C6A6437D8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399" name="Image 11" descr="LOGO4.jpg"/>
          <p:cNvPicPr/>
          <p:nvPr/>
        </p:nvPicPr>
        <p:blipFill>
          <a:blip r:embed="rId3"/>
          <a:stretch/>
        </p:blipFill>
        <p:spPr>
          <a:xfrm>
            <a:off x="0" y="965160"/>
            <a:ext cx="5329080" cy="5967360"/>
          </a:xfrm>
          <a:prstGeom prst="rect">
            <a:avLst/>
          </a:prstGeom>
          <a:ln w="0">
            <a:noFill/>
          </a:ln>
        </p:spPr>
      </p:pic>
      <p:sp>
        <p:nvSpPr>
          <p:cNvPr id="400" name="PlaceHolder 1"/>
          <p:cNvSpPr>
            <a:spLocks noGrp="1"/>
          </p:cNvSpPr>
          <p:nvPr>
            <p:ph type="dt" idx="25"/>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01" name="PlaceHolder 2"/>
          <p:cNvSpPr>
            <a:spLocks noGrp="1"/>
          </p:cNvSpPr>
          <p:nvPr>
            <p:ph type="ftr" idx="26"/>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3"/>
          <p:cNvSpPr>
            <a:spLocks noGrp="1"/>
          </p:cNvSpPr>
          <p:nvPr>
            <p:ph type="sldNum" idx="27"/>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F597-DCD6-4544-8A4A-646ACB602AF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440"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4EF8-A060-4C58-A919-BC28BEA1EE6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443" name="Image 11" descr="LOGO4.jpg"/>
          <p:cNvPicPr/>
          <p:nvPr/>
        </p:nvPicPr>
        <p:blipFill>
          <a:blip r:embed="rId3"/>
          <a:stretch/>
        </p:blipFill>
        <p:spPr>
          <a:xfrm>
            <a:off x="0" y="965160"/>
            <a:ext cx="5329080" cy="5967360"/>
          </a:xfrm>
          <a:prstGeom prst="rect">
            <a:avLst/>
          </a:prstGeom>
          <a:ln w="0">
            <a:noFill/>
          </a:ln>
        </p:spPr>
      </p:pic>
      <p:sp>
        <p:nvSpPr>
          <p:cNvPr id="444" name="PlaceHolder 1"/>
          <p:cNvSpPr>
            <a:spLocks noGrp="1"/>
          </p:cNvSpPr>
          <p:nvPr>
            <p:ph type="dt" idx="28"/>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45" name="PlaceHolder 2"/>
          <p:cNvSpPr>
            <a:spLocks noGrp="1"/>
          </p:cNvSpPr>
          <p:nvPr>
            <p:ph type="ftr" idx="29"/>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3"/>
          <p:cNvSpPr>
            <a:spLocks noGrp="1"/>
          </p:cNvSpPr>
          <p:nvPr>
            <p:ph type="sldNum" idx="30"/>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C991-6CA9-4BF0-8B65-0A4D78681CD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484"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3933-4874-440E-94F9-C9791163BB2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487" name="Image 11" descr="LOGO4.jpg"/>
          <p:cNvPicPr/>
          <p:nvPr/>
        </p:nvPicPr>
        <p:blipFill>
          <a:blip r:embed="rId3"/>
          <a:stretch/>
        </p:blipFill>
        <p:spPr>
          <a:xfrm>
            <a:off x="0" y="965160"/>
            <a:ext cx="5329080" cy="5967360"/>
          </a:xfrm>
          <a:prstGeom prst="rect">
            <a:avLst/>
          </a:prstGeom>
          <a:ln w="0">
            <a:noFill/>
          </a:ln>
        </p:spPr>
      </p:pic>
      <p:sp>
        <p:nvSpPr>
          <p:cNvPr id="488" name="PlaceHolder 1"/>
          <p:cNvSpPr>
            <a:spLocks noGrp="1"/>
          </p:cNvSpPr>
          <p:nvPr>
            <p:ph type="dt" idx="31"/>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89" name="PlaceHolder 2"/>
          <p:cNvSpPr>
            <a:spLocks noGrp="1"/>
          </p:cNvSpPr>
          <p:nvPr>
            <p:ph type="ftr" idx="32"/>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3"/>
          <p:cNvSpPr>
            <a:spLocks noGrp="1"/>
          </p:cNvSpPr>
          <p:nvPr>
            <p:ph type="sldNum" idx="33"/>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5AD6-F0A6-42F0-9597-F0350E723FC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42"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14"/>
          <p:cNvSpPr/>
          <p:nvPr/>
        </p:nvSpPr>
        <p:spPr>
          <a:xfrm>
            <a:off x="-6012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F790-10A5-4758-A336-F91FC529FAF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45" name="Image 11" descr="LOGO4.jpg"/>
          <p:cNvPicPr/>
          <p:nvPr/>
        </p:nvPicPr>
        <p:blipFill>
          <a:blip r:embed="rId3"/>
          <a:stretch/>
        </p:blipFill>
        <p:spPr>
          <a:xfrm>
            <a:off x="0" y="965160"/>
            <a:ext cx="5329080" cy="5967360"/>
          </a:xfrm>
          <a:prstGeom prst="rect">
            <a:avLst/>
          </a:prstGeom>
          <a:ln w="0">
            <a:noFill/>
          </a:ln>
        </p:spPr>
      </p:pic>
      <p:sp>
        <p:nvSpPr>
          <p:cNvPr id="46" name="PlaceHolder 1"/>
          <p:cNvSpPr>
            <a:spLocks noGrp="1"/>
          </p:cNvSpPr>
          <p:nvPr>
            <p:ph type="dt" idx="1"/>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7" name="PlaceHolder 2"/>
          <p:cNvSpPr>
            <a:spLocks noGrp="1"/>
          </p:cNvSpPr>
          <p:nvPr>
            <p:ph type="ftr" idx="2"/>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AFB6-40C5-4DE1-B507-CBD331DD48D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86"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7773-B682-4DC7-903A-08E21FF6A81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89" name="Image 11" descr="LOGO4.jpg"/>
          <p:cNvPicPr/>
          <p:nvPr/>
        </p:nvPicPr>
        <p:blipFill>
          <a:blip r:embed="rId3"/>
          <a:stretch/>
        </p:blipFill>
        <p:spPr>
          <a:xfrm>
            <a:off x="0" y="965160"/>
            <a:ext cx="5329080" cy="5967360"/>
          </a:xfrm>
          <a:prstGeom prst="rect">
            <a:avLst/>
          </a:prstGeom>
          <a:ln w="0">
            <a:noFill/>
          </a:ln>
        </p:spPr>
      </p:pic>
      <p:sp>
        <p:nvSpPr>
          <p:cNvPr id="90" name="PlaceHolder 1"/>
          <p:cNvSpPr>
            <a:spLocks noGrp="1"/>
          </p:cNvSpPr>
          <p:nvPr>
            <p:ph type="dt" idx="4"/>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91" name="PlaceHolder 2"/>
          <p:cNvSpPr>
            <a:spLocks noGrp="1"/>
          </p:cNvSpPr>
          <p:nvPr>
            <p:ph type="ftr" idx="5"/>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Num" idx="6"/>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5360-38BB-4B9A-97B7-E50FD94180E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130"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C184-0B13-4E23-8C5A-AA5AB619AA3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133" name="Image 11" descr="LOGO4.jpg"/>
          <p:cNvPicPr/>
          <p:nvPr/>
        </p:nvPicPr>
        <p:blipFill>
          <a:blip r:embed="rId3"/>
          <a:stretch/>
        </p:blipFill>
        <p:spPr>
          <a:xfrm>
            <a:off x="0" y="965160"/>
            <a:ext cx="5329080" cy="5967360"/>
          </a:xfrm>
          <a:prstGeom prst="rect">
            <a:avLst/>
          </a:prstGeom>
          <a:ln w="0">
            <a:noFill/>
          </a:ln>
        </p:spPr>
      </p:pic>
      <p:sp>
        <p:nvSpPr>
          <p:cNvPr id="134" name="PlaceHolder 1"/>
          <p:cNvSpPr>
            <a:spLocks noGrp="1"/>
          </p:cNvSpPr>
          <p:nvPr>
            <p:ph type="dt" idx="7"/>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35" name="PlaceHolder 2"/>
          <p:cNvSpPr>
            <a:spLocks noGrp="1"/>
          </p:cNvSpPr>
          <p:nvPr>
            <p:ph type="ftr" idx="8"/>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type="sldNum" idx="9"/>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4B72-FC83-43F1-A19E-FB320B4F084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174"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AEF7-F4B1-418A-B4D6-8187F3F0941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177" name="Image 11" descr="LOGO4.jpg"/>
          <p:cNvPicPr/>
          <p:nvPr/>
        </p:nvPicPr>
        <p:blipFill>
          <a:blip r:embed="rId3"/>
          <a:stretch/>
        </p:blipFill>
        <p:spPr>
          <a:xfrm>
            <a:off x="0" y="965160"/>
            <a:ext cx="5329080" cy="5967360"/>
          </a:xfrm>
          <a:prstGeom prst="rect">
            <a:avLst/>
          </a:prstGeom>
          <a:ln w="0">
            <a:noFill/>
          </a:ln>
        </p:spPr>
      </p:pic>
      <p:sp>
        <p:nvSpPr>
          <p:cNvPr id="178" name="PlaceHolder 1"/>
          <p:cNvSpPr>
            <a:spLocks noGrp="1"/>
          </p:cNvSpPr>
          <p:nvPr>
            <p:ph type="dt" idx="10"/>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79" name="PlaceHolder 2"/>
          <p:cNvSpPr>
            <a:spLocks noGrp="1"/>
          </p:cNvSpPr>
          <p:nvPr>
            <p:ph type="ftr" idx="11"/>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3"/>
          <p:cNvSpPr>
            <a:spLocks noGrp="1"/>
          </p:cNvSpPr>
          <p:nvPr>
            <p:ph type="sldNum" idx="12"/>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1B13-C03D-4EF9-B75D-BD1EF36615E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218"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E66E-ED45-4849-BDC6-30772A2B3C9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221" name="Image 11" descr="LOGO4.jpg"/>
          <p:cNvPicPr/>
          <p:nvPr/>
        </p:nvPicPr>
        <p:blipFill>
          <a:blip r:embed="rId3"/>
          <a:stretch/>
        </p:blipFill>
        <p:spPr>
          <a:xfrm>
            <a:off x="0" y="965160"/>
            <a:ext cx="5329080" cy="5967360"/>
          </a:xfrm>
          <a:prstGeom prst="rect">
            <a:avLst/>
          </a:prstGeom>
          <a:ln w="0">
            <a:noFill/>
          </a:ln>
        </p:spPr>
      </p:pic>
      <p:sp>
        <p:nvSpPr>
          <p:cNvPr id="222" name="PlaceHolder 1"/>
          <p:cNvSpPr>
            <a:spLocks noGrp="1"/>
          </p:cNvSpPr>
          <p:nvPr>
            <p:ph type="dt" idx="13"/>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23" name="PlaceHolder 2"/>
          <p:cNvSpPr>
            <a:spLocks noGrp="1"/>
          </p:cNvSpPr>
          <p:nvPr>
            <p:ph type="ftr" idx="14"/>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5"/>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E84F-3AE4-421E-99A9-123BECF4E41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262"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BD0E-82E8-4911-A715-653D46FC53B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265" name="Image 11" descr="LOGO4.jpg"/>
          <p:cNvPicPr/>
          <p:nvPr/>
        </p:nvPicPr>
        <p:blipFill>
          <a:blip r:embed="rId3"/>
          <a:stretch/>
        </p:blipFill>
        <p:spPr>
          <a:xfrm>
            <a:off x="0" y="965160"/>
            <a:ext cx="5329080" cy="5967360"/>
          </a:xfrm>
          <a:prstGeom prst="rect">
            <a:avLst/>
          </a:prstGeom>
          <a:ln w="0">
            <a:noFill/>
          </a:ln>
        </p:spPr>
      </p:pic>
      <p:sp>
        <p:nvSpPr>
          <p:cNvPr id="266" name="PlaceHolder 1"/>
          <p:cNvSpPr>
            <a:spLocks noGrp="1"/>
          </p:cNvSpPr>
          <p:nvPr>
            <p:ph type="dt" idx="16"/>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67" name="PlaceHolder 2"/>
          <p:cNvSpPr>
            <a:spLocks noGrp="1"/>
          </p:cNvSpPr>
          <p:nvPr>
            <p:ph type="ftr" idx="17"/>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3"/>
          <p:cNvSpPr>
            <a:spLocks noGrp="1"/>
          </p:cNvSpPr>
          <p:nvPr>
            <p:ph type="sldNum" idx="18"/>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515B-A613-4C0A-8C6A-2A269135DA2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306"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4"/>
          <p:cNvSpPr/>
          <p:nvPr/>
        </p:nvSpPr>
        <p:spPr>
          <a:xfrm>
            <a:off x="-6012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37D9-D0D5-4A05-8D50-23261035034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309" name="Image 11" descr="LOGO4.jpg"/>
          <p:cNvPicPr/>
          <p:nvPr/>
        </p:nvPicPr>
        <p:blipFill>
          <a:blip r:embed="rId3"/>
          <a:stretch/>
        </p:blipFill>
        <p:spPr>
          <a:xfrm>
            <a:off x="0" y="965160"/>
            <a:ext cx="5329080" cy="5967360"/>
          </a:xfrm>
          <a:prstGeom prst="rect">
            <a:avLst/>
          </a:prstGeom>
          <a:ln w="0">
            <a:noFill/>
          </a:ln>
        </p:spPr>
      </p:pic>
      <p:sp>
        <p:nvSpPr>
          <p:cNvPr id="310" name="PlaceHolder 1"/>
          <p:cNvSpPr>
            <a:spLocks noGrp="1"/>
          </p:cNvSpPr>
          <p:nvPr>
            <p:ph type="dt" idx="19"/>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11" name="PlaceHolder 2"/>
          <p:cNvSpPr>
            <a:spLocks noGrp="1"/>
          </p:cNvSpPr>
          <p:nvPr>
            <p:ph type="ftr" idx="20"/>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3"/>
          <p:cNvSpPr>
            <a:spLocks noGrp="1"/>
          </p:cNvSpPr>
          <p:nvPr>
            <p:ph type="sldNum" idx="21"/>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727E-A7C4-491A-A904-B02622A2F23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313" name="PlaceHolder 4"/>
          <p:cNvSpPr>
            <a:spLocks noGrp="1"/>
          </p:cNvSpPr>
          <p:nvPr>
            <p:ph type="title"/>
          </p:nvPr>
        </p:nvSpPr>
        <p:spPr>
          <a:xfrm>
            <a:off x="266400" y="301320"/>
            <a:ext cx="479484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4" name="PlaceHolder 5"/>
          <p:cNvSpPr>
            <a:spLocks noGrp="1"/>
          </p:cNvSpPr>
          <p:nvPr>
            <p:ph type="body"/>
          </p:nvPr>
        </p:nvSpPr>
        <p:spPr>
          <a:xfrm>
            <a:off x="266400" y="1769040"/>
            <a:ext cx="4794840" cy="43844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8" descr="O:\00_ADMINISTRATIF\logo\LOGO SOC + SIGN FR RVB.jpg"/>
          <p:cNvPicPr/>
          <p:nvPr/>
        </p:nvPicPr>
        <p:blipFill>
          <a:blip r:embed="rId2"/>
          <a:stretch/>
        </p:blipFill>
        <p:spPr>
          <a:xfrm>
            <a:off x="3449520" y="6915240"/>
            <a:ext cx="1828800" cy="608040"/>
          </a:xfrm>
          <a:prstGeom prst="rect">
            <a:avLst/>
          </a:prstGeom>
          <a:ln w="0">
            <a:noFill/>
          </a:ln>
        </p:spPr>
      </p:pic>
      <p:sp>
        <p:nvSpPr>
          <p:cNvPr id="352" name="Rectangle 9"/>
          <p:cNvSpPr/>
          <p:nvPr/>
        </p:nvSpPr>
        <p:spPr>
          <a:xfrm>
            <a:off x="3849840" y="7459560"/>
            <a:ext cx="1479240" cy="1018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
          <p:cNvSpPr/>
          <p:nvPr/>
        </p:nvSpPr>
        <p:spPr>
          <a:xfrm>
            <a:off x="4371840" y="7319880"/>
            <a:ext cx="8240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8560" y="731376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1B72-D6D5-4937-B402-904A071E6B1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355" name="Image 11" descr="LOGO4.jpg"/>
          <p:cNvPicPr/>
          <p:nvPr/>
        </p:nvPicPr>
        <p:blipFill>
          <a:blip r:embed="rId3"/>
          <a:stretch/>
        </p:blipFill>
        <p:spPr>
          <a:xfrm>
            <a:off x="0" y="965160"/>
            <a:ext cx="5329080" cy="5967360"/>
          </a:xfrm>
          <a:prstGeom prst="rect">
            <a:avLst/>
          </a:prstGeom>
          <a:ln w="0">
            <a:noFill/>
          </a:ln>
        </p:spPr>
      </p:pic>
      <p:sp>
        <p:nvSpPr>
          <p:cNvPr id="356" name="PlaceHolder 1"/>
          <p:cNvSpPr>
            <a:spLocks noGrp="1"/>
          </p:cNvSpPr>
          <p:nvPr>
            <p:ph type="dt" idx="22"/>
          </p:nvPr>
        </p:nvSpPr>
        <p:spPr>
          <a:xfrm>
            <a:off x="26640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57" name="PlaceHolder 2"/>
          <p:cNvSpPr>
            <a:spLocks noGrp="1"/>
          </p:cNvSpPr>
          <p:nvPr>
            <p:ph type="ftr" idx="23"/>
          </p:nvPr>
        </p:nvSpPr>
        <p:spPr>
          <a:xfrm>
            <a:off x="1820520" y="7008840"/>
            <a:ext cx="168732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3"/>
          <p:cNvSpPr>
            <a:spLocks noGrp="1"/>
          </p:cNvSpPr>
          <p:nvPr>
            <p:ph type="sldNum" idx="24"/>
          </p:nvPr>
        </p:nvSpPr>
        <p:spPr>
          <a:xfrm>
            <a:off x="3819240" y="7008840"/>
            <a:ext cx="1243080" cy="401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43A5-D249-48DE-957D-D7EDB825E9F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8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4.jpeg"/><Relationship Id="rId4" Type="http://schemas.openxmlformats.org/officeDocument/2006/relationships/slideLayout" Target="../slideLayouts/slideLayout85.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Image 11" descr="FOND1.jpg"/>
          <p:cNvPicPr/>
          <p:nvPr/>
        </p:nvPicPr>
        <p:blipFill>
          <a:blip r:embed="rId1"/>
          <a:stretch/>
        </p:blipFill>
        <p:spPr>
          <a:xfrm>
            <a:off x="0" y="0"/>
            <a:ext cx="5329080" cy="4478400"/>
          </a:xfrm>
          <a:prstGeom prst="rect">
            <a:avLst/>
          </a:prstGeom>
          <a:ln w="0">
            <a:noFill/>
          </a:ln>
        </p:spPr>
      </p:pic>
      <p:sp>
        <p:nvSpPr>
          <p:cNvPr id="535" name="Text Box 14"/>
          <p:cNvSpPr/>
          <p:nvPr/>
        </p:nvSpPr>
        <p:spPr>
          <a:xfrm>
            <a:off x="-134640" y="731988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2CE6-297A-41F4-8C81-DA89A721567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36" name="Rectangle 14"/>
          <p:cNvSpPr/>
          <p:nvPr/>
        </p:nvSpPr>
        <p:spPr>
          <a:xfrm>
            <a:off x="1440" y="5348160"/>
            <a:ext cx="5327640" cy="221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
          <p:cNvSpPr/>
          <p:nvPr/>
        </p:nvSpPr>
        <p:spPr>
          <a:xfrm>
            <a:off x="0" y="4438800"/>
            <a:ext cx="5334120" cy="91440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9"/>
          <p:cNvSpPr/>
          <p:nvPr/>
        </p:nvSpPr>
        <p:spPr>
          <a:xfrm>
            <a:off x="109440" y="4522680"/>
            <a:ext cx="51055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urostile"/>
              </a:rPr>
              <a:t>Communiqué de pres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urostile"/>
              </a:rPr>
              <a:t>26 janvier 2011</a:t>
            </a:r>
            <a:endParaRPr b="0" lang="en-US" sz="2000" spc="-1" strike="noStrike">
              <a:solidFill>
                <a:srgbClr val="000000"/>
              </a:solidFill>
              <a:latin typeface="Arial"/>
            </a:endParaRPr>
          </a:p>
        </p:txBody>
      </p:sp>
      <p:pic>
        <p:nvPicPr>
          <p:cNvPr id="539" name="Picture 12" descr="O:\00_ADMINISTRATIF\logo\LOGO SOC + SIGN FR RVB.jpg"/>
          <p:cNvPicPr/>
          <p:nvPr/>
        </p:nvPicPr>
        <p:blipFill>
          <a:blip r:embed="rId2"/>
          <a:stretch/>
        </p:blipFill>
        <p:spPr>
          <a:xfrm>
            <a:off x="2514600" y="6620040"/>
            <a:ext cx="2590920" cy="861840"/>
          </a:xfrm>
          <a:prstGeom prst="rect">
            <a:avLst/>
          </a:prstGeom>
          <a:ln w="0">
            <a:noFill/>
          </a:ln>
        </p:spPr>
      </p:pic>
      <p:sp>
        <p:nvSpPr>
          <p:cNvPr id="540" name="Rectangle 13"/>
          <p:cNvSpPr/>
          <p:nvPr/>
        </p:nvSpPr>
        <p:spPr>
          <a:xfrm>
            <a:off x="3040200" y="7405560"/>
            <a:ext cx="2284200" cy="15264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Image 7" descr="LOGO.jpg"/>
          <p:cNvPicPr/>
          <p:nvPr/>
        </p:nvPicPr>
        <p:blipFill>
          <a:blip r:embed="rId3"/>
          <a:stretch/>
        </p:blipFill>
        <p:spPr>
          <a:xfrm>
            <a:off x="1378080" y="23760"/>
            <a:ext cx="3897360" cy="4356000"/>
          </a:xfrm>
          <a:prstGeom prst="rect">
            <a:avLst/>
          </a:prstGeom>
          <a:ln w="0">
            <a:noFill/>
          </a:ln>
        </p:spPr>
      </p:pic>
      <p:sp>
        <p:nvSpPr>
          <p:cNvPr id="542" name="ZoneTexte 8"/>
          <p:cNvSpPr/>
          <p:nvPr/>
        </p:nvSpPr>
        <p:spPr>
          <a:xfrm>
            <a:off x="272880" y="5951520"/>
            <a:ext cx="4178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Lancement de l’application « SOCREDO Mobil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Rectangle 2"/>
          <p:cNvSpPr/>
          <p:nvPr/>
        </p:nvSpPr>
        <p:spPr>
          <a:xfrm>
            <a:off x="0" y="0"/>
            <a:ext cx="5334120" cy="304920"/>
          </a:xfrm>
          <a:prstGeom prst="rect">
            <a:avLst/>
          </a:prstGeom>
          <a:solidFill>
            <a:srgbClr val="d2e3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4"/>
          <p:cNvSpPr/>
          <p:nvPr/>
        </p:nvSpPr>
        <p:spPr>
          <a:xfrm>
            <a:off x="3240" y="304920"/>
            <a:ext cx="5333760" cy="33804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5"/>
          <p:cNvSpPr/>
          <p:nvPr/>
        </p:nvSpPr>
        <p:spPr>
          <a:xfrm>
            <a:off x="372960" y="279360"/>
            <a:ext cx="467208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Eurostile"/>
                <a:ea typeface="Times New Roman"/>
              </a:rPr>
              <a:t>COMMUNIQUE DE PRESS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Eurostile"/>
                <a:ea typeface="Times New Roman"/>
              </a:rPr>
              <a:t>Papeete, le 26 janvier 2011</a:t>
            </a:r>
            <a:endParaRPr b="0" lang="en-US" sz="1000" spc="-1" strike="noStrike">
              <a:solidFill>
                <a:srgbClr val="000000"/>
              </a:solidFill>
              <a:latin typeface="Arial"/>
            </a:endParaRPr>
          </a:p>
        </p:txBody>
      </p:sp>
      <p:sp>
        <p:nvSpPr>
          <p:cNvPr id="546" name="Text Box 4"/>
          <p:cNvSpPr/>
          <p:nvPr/>
        </p:nvSpPr>
        <p:spPr>
          <a:xfrm>
            <a:off x="363600" y="990720"/>
            <a:ext cx="4551480" cy="68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fac5c"/>
                </a:solidFill>
                <a:latin typeface="Eurostile"/>
              </a:rPr>
              <a:t>« SOCREDO Mobile » : la première application bancaire du Fenua pour smartphones iOS ou Android.</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urostile"/>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urostile"/>
              </a:rPr>
              <a:t>Fin 2010, près de 7 millions de français possèdent un smartphone. En Polynésie française, ce chiffre dépasserait les 10 000 (dont environ 5 000 iPhone)</a:t>
            </a:r>
            <a:r>
              <a:rPr b="0" lang="fr-FR" sz="1000" spc="-1" strike="noStrike" baseline="30000">
                <a:solidFill>
                  <a:srgbClr val="000000"/>
                </a:solidFill>
                <a:latin typeface="Eurostile"/>
              </a:rPr>
              <a:t>(1) </a:t>
            </a:r>
            <a:r>
              <a:rPr b="0" lang="fr-FR" sz="1000" spc="-1" strike="noStrike">
                <a:solidFill>
                  <a:srgbClr val="000000"/>
                </a:solidFill>
                <a:latin typeface="Eurostile"/>
              </a:rPr>
              <a:t>et les utilisateurs de smartphones sont de plus en plus nombreux à surfer sur l’Internet mobil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urostile"/>
              </a:rPr>
              <a:t>Dans l’optique de renforcer la qualité et l’étendue de ses services, la Banque SOCREDO, propose désormais sa nouvelle application «SOCREDO Mobile» gratuitement et à tous les utilisateurs de smartphones iOS ou Android.</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urostile"/>
              </a:rPr>
              <a:t>Elle permettra notamment aux utilisateurs de trouver les agences et distributeurs de la Banque SOCREDO les plus proches de leur position géographique via le service de géolocalisation, d’obtenir toutes les informations concernant les agences de la Banque SOCREDO (horaires d’ouverture, numéros de téléphone, services proposés…) et également, de consulter le solde</a:t>
            </a:r>
            <a:r>
              <a:rPr b="0" lang="fr-FR" sz="1000" spc="-1" strike="noStrike" baseline="30000">
                <a:solidFill>
                  <a:srgbClr val="000000"/>
                </a:solidFill>
                <a:latin typeface="Eurostile"/>
              </a:rPr>
              <a:t>(2)</a:t>
            </a:r>
            <a:r>
              <a:rPr b="0" lang="fr-FR" sz="1000" spc="-1" strike="noStrike">
                <a:solidFill>
                  <a:srgbClr val="000000"/>
                </a:solidFill>
                <a:latin typeface="Eurostile"/>
              </a:rPr>
              <a:t> de leurs comptes en toute simplicité.</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urostile"/>
              </a:rPr>
              <a:t>A compter du 26 janvier 2011, l’application sera téléchargeable gratuitement depuis l’Appstore pour les utilisateurs d’iPhone et depuis Android Market pour tous les téléphones dotés du système Android. L’utilisateur pourra ainsi profiter de tous les avantages de l’application via la connexion Internet mobile (3G ou Edge) ou via une connexion wifi. Une présentation de l’application « SOCREDO Mobile » sera réalisé le mercredi 26 janvier à 12H dans le cadre du village numérique du FIF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urostile"/>
              </a:rPr>
              <a:t>Le lancement de cette application innovante confirme la volonté de la Banque SOCREDO d’être toujours au plus proche des besoins de ses clients.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Eurostile"/>
                <a:ea typeface="Times New Roman"/>
              </a:rPr>
              <a:t>Configuration requise : Compatible iPhone, iPod Touch, iPad avec iOS 3.1.3 ou supérieur ou smartphone avec OS Android version 1.6 ou supérieur.</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Eurostile"/>
              </a:rPr>
              <a:t>(1) Source : Tikiphone</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Eurostile"/>
              </a:rPr>
              <a:t>(2) la consultation des soldes est un service réservé aux clients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Eurostile"/>
              </a:rPr>
              <a:t>de la Banque SOCREDO et abonnés WEBSOC</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aphicFrame>
        <p:nvGraphicFramePr>
          <p:cNvPr id="547" name=""/>
          <p:cNvGraphicFramePr/>
          <p:nvPr/>
        </p:nvGraphicFramePr>
        <p:xfrm>
          <a:off x="2278080" y="2800440"/>
          <a:ext cx="772920" cy="772920"/>
        </p:xfrm>
        <a:graphic>
          <a:graphicData uri="http://schemas.openxmlformats.org/presentationml/2006/ole">
            <p:oleObj r:id="rId1" spid="">
              <p:embed/>
              <p:pic>
                <p:nvPicPr>
                  <p:cNvPr id="548" name="" descr=""/>
                  <p:cNvPicPr/>
                  <p:nvPr/>
                </p:nvPicPr>
                <p:blipFill>
                  <a:blip r:embed="rId2"/>
                  <a:stretch/>
                </p:blipFill>
                <p:spPr>
                  <a:xfrm>
                    <a:off x="2278080" y="2800440"/>
                    <a:ext cx="7729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Rectangle 2"/>
          <p:cNvSpPr/>
          <p:nvPr/>
        </p:nvSpPr>
        <p:spPr>
          <a:xfrm>
            <a:off x="0" y="0"/>
            <a:ext cx="5334120" cy="304920"/>
          </a:xfrm>
          <a:prstGeom prst="rect">
            <a:avLst/>
          </a:prstGeom>
          <a:solidFill>
            <a:srgbClr val="d2e3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4"/>
          <p:cNvSpPr/>
          <p:nvPr/>
        </p:nvSpPr>
        <p:spPr>
          <a:xfrm>
            <a:off x="3240" y="304920"/>
            <a:ext cx="5333760" cy="33804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5"/>
          <p:cNvSpPr/>
          <p:nvPr/>
        </p:nvSpPr>
        <p:spPr>
          <a:xfrm>
            <a:off x="372960" y="365040"/>
            <a:ext cx="46720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Eurostile"/>
                <a:ea typeface="Times New Roman"/>
              </a:rPr>
              <a:t>Présentation de l’application « SOCREDO Mobile »</a:t>
            </a:r>
            <a:endParaRPr b="0" lang="en-US" sz="1000" spc="-1" strike="noStrike">
              <a:solidFill>
                <a:srgbClr val="000000"/>
              </a:solidFill>
              <a:latin typeface="Arial"/>
            </a:endParaRPr>
          </a:p>
        </p:txBody>
      </p:sp>
      <p:sp>
        <p:nvSpPr>
          <p:cNvPr id="552" name="Text Box 4"/>
          <p:cNvSpPr/>
          <p:nvPr/>
        </p:nvSpPr>
        <p:spPr>
          <a:xfrm>
            <a:off x="1828800" y="857160"/>
            <a:ext cx="3048120" cy="32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6fac5c"/>
                </a:solidFill>
                <a:latin typeface="Eurostile"/>
                <a:ea typeface="ヒラギノ角ゴ Pro W3"/>
              </a:rPr>
              <a:t>Les avantages « SOCREDO Mobile » pour tous les utilisateurs de smartphon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Eurostile"/>
                <a:ea typeface="ヒラギノ角ゴ Pro W3"/>
              </a:rPr>
              <a:t>Cette application permet de localiser l’agence ou le distributeur le plus proche de l’utilisateur, grâce au service de géolocalisation de son téléphone. La recherche peut également se faire à partir du nom de la commune ou de l’î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Eurostile"/>
                <a:ea typeface="ヒラギノ角ゴ Pro W3"/>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Eurostile"/>
                <a:ea typeface="ヒラギノ角ゴ Pro W3"/>
              </a:rPr>
              <a:t>Parallèlement aux coordonnées de l’agence, l’application permet d’afficher les horaires d’ouverture, les numéros de téléphone et les services à disposi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Eurostile"/>
                <a:ea typeface="ヒラギノ角ゴ Pro W3"/>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Eurostile"/>
                <a:ea typeface="ヒラギノ角ゴ Pro W3"/>
              </a:rPr>
              <a:t>Pratique, l’application propose également une carte de Tahiti qui permet de mieux situer l’agence ou le distributeur où l’utilisateur désire se rendr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Eurostile"/>
                <a:ea typeface="ヒラギノ角ゴ Pro W3"/>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Eurostile"/>
                <a:ea typeface="ヒラギノ角ゴ Pro W3"/>
              </a:rPr>
              <a:t>L’utilisateur souhaite entrer en contact avec le centre de relation clientèle ou faire opposition ? Les numéros utiles sont toujours à portée de main en cas d’urg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Eurostile"/>
                <a:ea typeface="ヒラギノ角ゴ Pro W3"/>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553" name="" descr=""/>
          <p:cNvPicPr/>
          <p:nvPr/>
        </p:nvPicPr>
        <p:blipFill>
          <a:blip r:embed="rId1"/>
          <a:stretch/>
        </p:blipFill>
        <p:spPr>
          <a:xfrm>
            <a:off x="3727440" y="3592440"/>
            <a:ext cx="1162080" cy="2070000"/>
          </a:xfrm>
          <a:prstGeom prst="rect">
            <a:avLst/>
          </a:prstGeom>
          <a:ln w="0">
            <a:noFill/>
          </a:ln>
        </p:spPr>
      </p:pic>
      <p:pic>
        <p:nvPicPr>
          <p:cNvPr id="554" name="" descr=""/>
          <p:cNvPicPr/>
          <p:nvPr/>
        </p:nvPicPr>
        <p:blipFill>
          <a:blip r:embed="rId2"/>
          <a:stretch/>
        </p:blipFill>
        <p:spPr>
          <a:xfrm>
            <a:off x="912960" y="4862520"/>
            <a:ext cx="1527120" cy="2290680"/>
          </a:xfrm>
          <a:prstGeom prst="rect">
            <a:avLst/>
          </a:prstGeom>
          <a:ln w="0">
            <a:noFill/>
          </a:ln>
        </p:spPr>
      </p:pic>
      <p:sp>
        <p:nvSpPr>
          <p:cNvPr id="555" name="Text Box 4"/>
          <p:cNvSpPr/>
          <p:nvPr/>
        </p:nvSpPr>
        <p:spPr>
          <a:xfrm>
            <a:off x="2522520" y="5688000"/>
            <a:ext cx="206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fac5c"/>
                </a:solidFill>
                <a:latin typeface="Eurostile"/>
                <a:ea typeface="ヒラギノ角ゴ Pro W3"/>
              </a:rPr>
              <a:t>Consultez vos compt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Eurostile"/>
                <a:ea typeface="ヒラギノ角ゴ Pro W3"/>
              </a:rPr>
              <a:t>Les clients de la Banque SOCREDO abonnés au service de banque à domicile WEBSOC peuvent consulter le solde de leurs comptes à distance, à tout moment et en toute simplicité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Eurostile"/>
                <a:ea typeface="ヒラギノ角ゴ Pro W3"/>
              </a:rPr>
              <a:t> </a:t>
            </a:r>
            <a:endParaRPr b="0" lang="en-US" sz="900" spc="-1" strike="noStrike">
              <a:solidFill>
                <a:srgbClr val="000000"/>
              </a:solidFill>
              <a:latin typeface="Arial"/>
            </a:endParaRPr>
          </a:p>
        </p:txBody>
      </p:sp>
      <p:pic>
        <p:nvPicPr>
          <p:cNvPr id="556" name="" descr=""/>
          <p:cNvPicPr/>
          <p:nvPr/>
        </p:nvPicPr>
        <p:blipFill>
          <a:blip r:embed="rId3"/>
          <a:stretch/>
        </p:blipFill>
        <p:spPr>
          <a:xfrm>
            <a:off x="455760" y="1047600"/>
            <a:ext cx="1299960" cy="1467000"/>
          </a:xfrm>
          <a:prstGeom prst="rect">
            <a:avLst/>
          </a:prstGeom>
          <a:ln w="0">
            <a:noFill/>
          </a:ln>
        </p:spPr>
      </p:pic>
      <p:pic>
        <p:nvPicPr>
          <p:cNvPr id="557" name="" descr=""/>
          <p:cNvPicPr/>
          <p:nvPr/>
        </p:nvPicPr>
        <p:blipFill>
          <a:blip r:embed="rId4"/>
          <a:stretch/>
        </p:blipFill>
        <p:spPr>
          <a:xfrm>
            <a:off x="455760" y="2705040"/>
            <a:ext cx="1319040" cy="27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2"/>
          <p:cNvSpPr/>
          <p:nvPr/>
        </p:nvSpPr>
        <p:spPr>
          <a:xfrm>
            <a:off x="0" y="0"/>
            <a:ext cx="5334120" cy="304920"/>
          </a:xfrm>
          <a:prstGeom prst="rect">
            <a:avLst/>
          </a:prstGeom>
          <a:solidFill>
            <a:srgbClr val="d2e3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4"/>
          <p:cNvSpPr/>
          <p:nvPr/>
        </p:nvSpPr>
        <p:spPr>
          <a:xfrm>
            <a:off x="3240" y="304920"/>
            <a:ext cx="5333760" cy="33804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
          <p:cNvSpPr/>
          <p:nvPr/>
        </p:nvSpPr>
        <p:spPr>
          <a:xfrm>
            <a:off x="372960" y="365040"/>
            <a:ext cx="46720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Eurostile"/>
                <a:ea typeface="Times New Roman"/>
              </a:rPr>
              <a:t>« SOCREDO Mobile » : des fonctionnalités gratuites ouvertes à tous</a:t>
            </a:r>
            <a:endParaRPr b="0" lang="en-US" sz="1000" spc="-1" strike="noStrike">
              <a:solidFill>
                <a:srgbClr val="000000"/>
              </a:solidFill>
              <a:latin typeface="Arial"/>
            </a:endParaRPr>
          </a:p>
        </p:txBody>
      </p:sp>
      <p:sp>
        <p:nvSpPr>
          <p:cNvPr id="561" name="Text Box 4"/>
          <p:cNvSpPr/>
          <p:nvPr/>
        </p:nvSpPr>
        <p:spPr>
          <a:xfrm>
            <a:off x="1549440" y="1085760"/>
            <a:ext cx="19908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Eurostile"/>
                <a:ea typeface="Times New Roman"/>
              </a:rPr>
              <a:t>Trouvez l’agence ou le distributeur de billets le plus proche</a:t>
            </a:r>
            <a:r>
              <a:rPr b="0" lang="en-US" sz="900" spc="-1" strike="noStrike">
                <a:solidFill>
                  <a:srgbClr val="000000"/>
                </a:solidFill>
                <a:latin typeface="Eurostile"/>
                <a:ea typeface="Times New Roman"/>
              </a:rPr>
              <a:t> grâce au service de géolocalisation de votre smartphone …</a:t>
            </a:r>
            <a:endParaRPr b="0" lang="en-US" sz="900" spc="-1" strike="noStrike">
              <a:solidFill>
                <a:srgbClr val="000000"/>
              </a:solidFill>
              <a:latin typeface="Arial"/>
            </a:endParaRPr>
          </a:p>
        </p:txBody>
      </p:sp>
      <p:pic>
        <p:nvPicPr>
          <p:cNvPr id="562" name="" descr=""/>
          <p:cNvPicPr/>
          <p:nvPr/>
        </p:nvPicPr>
        <p:blipFill>
          <a:blip r:embed="rId1"/>
          <a:stretch/>
        </p:blipFill>
        <p:spPr>
          <a:xfrm>
            <a:off x="3605040" y="766800"/>
            <a:ext cx="1278000" cy="1917720"/>
          </a:xfrm>
          <a:prstGeom prst="rect">
            <a:avLst/>
          </a:prstGeom>
          <a:ln w="0">
            <a:noFill/>
          </a:ln>
        </p:spPr>
      </p:pic>
      <p:pic>
        <p:nvPicPr>
          <p:cNvPr id="563" name="" descr=""/>
          <p:cNvPicPr/>
          <p:nvPr/>
        </p:nvPicPr>
        <p:blipFill>
          <a:blip r:embed="rId2"/>
          <a:stretch/>
        </p:blipFill>
        <p:spPr>
          <a:xfrm>
            <a:off x="455760" y="2271600"/>
            <a:ext cx="1279440" cy="1919520"/>
          </a:xfrm>
          <a:prstGeom prst="rect">
            <a:avLst/>
          </a:prstGeom>
          <a:ln w="0">
            <a:noFill/>
          </a:ln>
        </p:spPr>
      </p:pic>
      <p:pic>
        <p:nvPicPr>
          <p:cNvPr id="564" name="" descr=""/>
          <p:cNvPicPr/>
          <p:nvPr/>
        </p:nvPicPr>
        <p:blipFill>
          <a:blip r:embed="rId3"/>
          <a:stretch/>
        </p:blipFill>
        <p:spPr>
          <a:xfrm>
            <a:off x="3598920" y="3778200"/>
            <a:ext cx="1278000" cy="1917720"/>
          </a:xfrm>
          <a:prstGeom prst="rect">
            <a:avLst/>
          </a:prstGeom>
          <a:ln w="0">
            <a:noFill/>
          </a:ln>
        </p:spPr>
      </p:pic>
      <p:pic>
        <p:nvPicPr>
          <p:cNvPr id="565" name="" descr=""/>
          <p:cNvPicPr/>
          <p:nvPr/>
        </p:nvPicPr>
        <p:blipFill>
          <a:blip r:embed="rId4"/>
          <a:stretch/>
        </p:blipFill>
        <p:spPr>
          <a:xfrm>
            <a:off x="455760" y="5281560"/>
            <a:ext cx="1276200" cy="1914480"/>
          </a:xfrm>
          <a:prstGeom prst="rect">
            <a:avLst/>
          </a:prstGeom>
          <a:ln w="0">
            <a:noFill/>
          </a:ln>
        </p:spPr>
      </p:pic>
      <p:sp>
        <p:nvSpPr>
          <p:cNvPr id="566" name="Text Box 4"/>
          <p:cNvSpPr/>
          <p:nvPr/>
        </p:nvSpPr>
        <p:spPr>
          <a:xfrm>
            <a:off x="1785960" y="2587680"/>
            <a:ext cx="1436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Eurostile"/>
                <a:ea typeface="Times New Roman"/>
              </a:rPr>
              <a:t>… </a:t>
            </a:r>
            <a:r>
              <a:rPr b="0" lang="en-US" sz="900" spc="-1" strike="noStrike">
                <a:solidFill>
                  <a:srgbClr val="000000"/>
                </a:solidFill>
                <a:latin typeface="Eurostile"/>
                <a:ea typeface="Times New Roman"/>
              </a:rPr>
              <a:t>ou </a:t>
            </a:r>
            <a:r>
              <a:rPr b="1" lang="en-US" sz="900" spc="-1" strike="noStrike">
                <a:solidFill>
                  <a:srgbClr val="000000"/>
                </a:solidFill>
                <a:latin typeface="Eurostile"/>
                <a:ea typeface="Times New Roman"/>
              </a:rPr>
              <a:t>recherchez facilement une agence</a:t>
            </a:r>
            <a:r>
              <a:rPr b="0" lang="en-US" sz="900" spc="-1" strike="noStrike">
                <a:solidFill>
                  <a:srgbClr val="000000"/>
                </a:solidFill>
                <a:latin typeface="Eurostile"/>
                <a:ea typeface="Times New Roman"/>
              </a:rPr>
              <a:t> de la Banque SOCREDO dans toute la Polynésie française …</a:t>
            </a:r>
            <a:endParaRPr b="0" lang="en-US" sz="900" spc="-1" strike="noStrike">
              <a:solidFill>
                <a:srgbClr val="000000"/>
              </a:solidFill>
              <a:latin typeface="Arial"/>
            </a:endParaRPr>
          </a:p>
        </p:txBody>
      </p:sp>
      <p:sp>
        <p:nvSpPr>
          <p:cNvPr id="567" name="Text Box 4"/>
          <p:cNvSpPr/>
          <p:nvPr/>
        </p:nvSpPr>
        <p:spPr>
          <a:xfrm>
            <a:off x="2155680" y="4094280"/>
            <a:ext cx="13795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Eurostile"/>
                <a:ea typeface="Times New Roman"/>
              </a:rPr>
              <a:t>… </a:t>
            </a:r>
            <a:r>
              <a:rPr b="1" lang="en-US" sz="900" spc="-1" strike="noStrike">
                <a:solidFill>
                  <a:srgbClr val="000000"/>
                </a:solidFill>
                <a:latin typeface="Eurostile"/>
                <a:ea typeface="Times New Roman"/>
              </a:rPr>
              <a:t>visualisez cette agence sur la carte</a:t>
            </a:r>
            <a:r>
              <a:rPr b="0" lang="en-US" sz="900" spc="-1" strike="noStrike">
                <a:solidFill>
                  <a:srgbClr val="000000"/>
                </a:solidFill>
                <a:latin typeface="Eurostile"/>
                <a:ea typeface="Times New Roman"/>
              </a:rPr>
              <a:t> …</a:t>
            </a:r>
            <a:endParaRPr b="0" lang="en-US" sz="900" spc="-1" strike="noStrike">
              <a:solidFill>
                <a:srgbClr val="000000"/>
              </a:solidFill>
              <a:latin typeface="Arial"/>
            </a:endParaRPr>
          </a:p>
        </p:txBody>
      </p:sp>
      <p:sp>
        <p:nvSpPr>
          <p:cNvPr id="568" name="Text Box 4"/>
          <p:cNvSpPr/>
          <p:nvPr/>
        </p:nvSpPr>
        <p:spPr>
          <a:xfrm>
            <a:off x="1781280" y="5605560"/>
            <a:ext cx="168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Eurostile"/>
                <a:ea typeface="Times New Roman"/>
              </a:rPr>
              <a:t>… </a:t>
            </a:r>
            <a:r>
              <a:rPr b="0" lang="en-US" sz="900" spc="-1" strike="noStrike">
                <a:solidFill>
                  <a:srgbClr val="000000"/>
                </a:solidFill>
                <a:latin typeface="Eurostile"/>
                <a:ea typeface="Times New Roman"/>
              </a:rPr>
              <a:t>et </a:t>
            </a:r>
            <a:r>
              <a:rPr b="1" lang="en-US" sz="900" spc="-1" strike="noStrike">
                <a:solidFill>
                  <a:srgbClr val="000000"/>
                </a:solidFill>
                <a:latin typeface="Eurostile"/>
                <a:ea typeface="Times New Roman"/>
              </a:rPr>
              <a:t>obtenez les informations utiles </a:t>
            </a:r>
            <a:r>
              <a:rPr b="0" lang="en-US" sz="900" spc="-1" strike="noStrike">
                <a:solidFill>
                  <a:srgbClr val="000000"/>
                </a:solidFill>
                <a:latin typeface="Eurostile"/>
                <a:ea typeface="Times New Roman"/>
              </a:rPr>
              <a:t>concernant les agences de la Banque SOCREDO :</a:t>
            </a:r>
            <a:endParaRPr b="0" lang="en-US" sz="900" spc="-1" strike="noStrike">
              <a:solidFill>
                <a:srgbClr val="000000"/>
              </a:solidFill>
              <a:latin typeface="Arial"/>
            </a:endParaRPr>
          </a:p>
          <a:p>
            <a:pPr indent="9540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Eurostile"/>
                <a:ea typeface="Times New Roman"/>
              </a:rPr>
              <a:t> </a:t>
            </a:r>
            <a:r>
              <a:rPr b="0" lang="en-US" sz="900" spc="-1" strike="noStrike">
                <a:solidFill>
                  <a:srgbClr val="000000"/>
                </a:solidFill>
                <a:latin typeface="Eurostile"/>
                <a:ea typeface="Times New Roman"/>
              </a:rPr>
              <a:t>Les horaires d’ouverture </a:t>
            </a:r>
            <a:endParaRPr b="0" lang="en-US" sz="900" spc="-1" strike="noStrike">
              <a:solidFill>
                <a:srgbClr val="000000"/>
              </a:solidFill>
              <a:latin typeface="Arial"/>
            </a:endParaRPr>
          </a:p>
          <a:p>
            <a:pPr indent="9540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Eurostile"/>
                <a:ea typeface="Times New Roman"/>
              </a:rPr>
              <a:t> </a:t>
            </a:r>
            <a:r>
              <a:rPr b="0" lang="en-US" sz="900" spc="-1" strike="noStrike">
                <a:solidFill>
                  <a:srgbClr val="000000"/>
                </a:solidFill>
                <a:latin typeface="Eurostile"/>
                <a:ea typeface="Times New Roman"/>
              </a:rPr>
              <a:t>Les numéros d’appels</a:t>
            </a:r>
            <a:endParaRPr b="0" lang="en-US" sz="900" spc="-1" strike="noStrike">
              <a:solidFill>
                <a:srgbClr val="000000"/>
              </a:solidFill>
              <a:latin typeface="Arial"/>
            </a:endParaRPr>
          </a:p>
          <a:p>
            <a:pPr indent="9540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Eurostile"/>
                <a:ea typeface="Times New Roman"/>
              </a:rPr>
              <a:t> </a:t>
            </a:r>
            <a:r>
              <a:rPr b="0" lang="en-US" sz="900" spc="-1" strike="noStrike">
                <a:solidFill>
                  <a:srgbClr val="000000"/>
                </a:solidFill>
                <a:latin typeface="Eurostile"/>
                <a:ea typeface="Times New Roman"/>
              </a:rPr>
              <a:t>Les services à disposi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2"/>
          <p:cNvSpPr/>
          <p:nvPr/>
        </p:nvSpPr>
        <p:spPr>
          <a:xfrm>
            <a:off x="0" y="0"/>
            <a:ext cx="5334120" cy="304920"/>
          </a:xfrm>
          <a:prstGeom prst="rect">
            <a:avLst/>
          </a:prstGeom>
          <a:solidFill>
            <a:srgbClr val="d2e3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4"/>
          <p:cNvSpPr/>
          <p:nvPr/>
        </p:nvSpPr>
        <p:spPr>
          <a:xfrm>
            <a:off x="3240" y="304920"/>
            <a:ext cx="5333760" cy="33804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 Box 5"/>
          <p:cNvSpPr/>
          <p:nvPr/>
        </p:nvSpPr>
        <p:spPr>
          <a:xfrm>
            <a:off x="372960" y="365040"/>
            <a:ext cx="46720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Eurostile"/>
                <a:ea typeface="Times New Roman"/>
              </a:rPr>
              <a:t>A PROPOS DE LA BANQUE SOCREDO</a:t>
            </a:r>
            <a:endParaRPr b="0" lang="en-US" sz="1000" spc="-1" strike="noStrike">
              <a:solidFill>
                <a:srgbClr val="000000"/>
              </a:solidFill>
              <a:latin typeface="Arial"/>
            </a:endParaRPr>
          </a:p>
        </p:txBody>
      </p:sp>
      <p:sp>
        <p:nvSpPr>
          <p:cNvPr id="572" name="Text Box 4"/>
          <p:cNvSpPr/>
          <p:nvPr/>
        </p:nvSpPr>
        <p:spPr>
          <a:xfrm>
            <a:off x="363600" y="992160"/>
            <a:ext cx="4551480" cy="58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fac5c"/>
                </a:solidFill>
                <a:latin typeface="Eurostile"/>
                <a:ea typeface="ヒラギノ角ゴ Pro W3"/>
              </a:rPr>
              <a:t>PREMIERE ENTREPRISE BANCAIRE DE POLYNESIE FRANCAIS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Eurostile"/>
                <a:ea typeface="ヒラギノ角ゴ Pro W3"/>
              </a:rPr>
              <a:t>La Banque SOCREDO assure, depuis plus de 50 ans, sa mission de soutien au développement de l’économie locale en offrant aux particuliers, comme aux entreprises, des services bancaires et financiers efficaces et adaptés. Elle poursuit aujourd’hui son développement en s’appuyant sur trois grandes missions : le financement de l’habitat et de l’équipement des ménages, le financement des investissements et de l’activité des entreprises et l’accompagnement de projets de développement au service de l’ensemble des archipels.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Eurostile"/>
                <a:ea typeface="ヒラギノ角ゴ Pro W3"/>
              </a:rPr>
              <a:t>C’est aujourd’hui une Société Anonyme d’Économie Mixte au capital de 22 milliards de F CFP détenue par le Pays à hauteur de 50 %,  l’Agence Française de Développement pour 35 % et par le Groupe BRED - Banque Populaire  à hauteur de 15 %.  Les ressources de la banque sont réinjectées exclusivement dans l’économie locale afin de soutenir la croissance des entreprises et les besoins financiers des particuliers.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fac5c"/>
                </a:solidFill>
                <a:latin typeface="Eurostile"/>
                <a:ea typeface="ヒラギノ角ゴ Pro W3"/>
              </a:rPr>
              <a:t>UNE DISPONIBILITÉ ET UNE PROXIMITÉ RASSURANTES</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Eurostile"/>
                <a:ea typeface="ヒラギノ角ゴ Pro W3"/>
              </a:rPr>
              <a:t>Avec 28 agences réparties sur les cinq archipels, la Banque SOCREDO offre à sa clientèle une proximité unique, participant ainsi au développement de la bancarisation des polynésiens. Une disponibilité qui peut prendre la forme de tournées bancaires dans les îles les plus reculées ne disposant pas d’agence permanente et renforcée encore par un service de banque à distance disponible par internet, télécopie, téléphone ou sms, 24 heures sur 24 et 7 jours sur 7.</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fac5c"/>
                </a:solidFill>
                <a:latin typeface="Eurostile"/>
                <a:ea typeface="ヒラギノ角ゴ Pro W3"/>
              </a:rPr>
              <a:t>UN VERITABLE PARTENAIRE</a:t>
            </a:r>
            <a:r>
              <a:rPr b="1" lang="fr-FR" sz="800" spc="-1" strike="noStrike">
                <a:solidFill>
                  <a:srgbClr val="000000"/>
                </a:solidFill>
                <a:latin typeface="Eurostile"/>
                <a:ea typeface="ヒラギノ角ゴ Pro W3"/>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Eurostile"/>
                <a:ea typeface="ヒラギノ角ゴ Pro W3"/>
              </a:rPr>
              <a:t>Sa position de leader, la Banque SOCREDO la doit à ses 566 collaborateurs dont la majeure partie est en contact avec la clientèle. C’est une des raisons pour lesquelles plus de 140 000 clients lui font confiance aujourd’hui. Le professionnalisme et la réactivité des conseillers de la Banque SOCREDO garantissent à chaque client de disposer du meilleur conseil en toutes circonstances. Ils sont de véritables partenaires, mettant chaque jour leur compétence et leur expertise au service des intérêts de leurs clients.</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fac5c"/>
                </a:solidFill>
                <a:latin typeface="Eurostile"/>
                <a:ea typeface="ヒラギノ角ゴ Pro W3"/>
              </a:rPr>
              <a:t>UNE LARGE GAMME DE PRODUITS ET SERVICES</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Eurostile"/>
                <a:ea typeface="ヒラギノ角ゴ Pro W3"/>
              </a:rPr>
              <a:t>Gestion d’entreprise, investissements, conseils boursiers, gestion de patrimoine, financement de l’habitat et de l’équipement des ménages ou, plus récemment, assurance des biens et des personnes et d’assurance-vie, les compétences de la Banque SOCREDO offrent un service à la hauteur des exigences de ses clients.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Eurostile"/>
                <a:ea typeface="ヒラギノ角ゴ Pro W3"/>
              </a:rPr>
              <a:t>C’est pour répondre à leurs attentes, même celles des clients les plus jeunes avec Ezee, sa marque dédiée aux 15-25 ans, que la banque a développé toute une gamme de produits et services bancaires. Depuis Juillet 2010, la Banque SOCREDO a, en outre, conclu un partenariat étroit avec la CASDEN et propose dorénavant des services et produits spécifiquement adaptés aux besoins des fonctionnaires.</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fac5c"/>
                </a:solidFill>
                <a:latin typeface="Eurostile"/>
                <a:ea typeface="ヒラギノ角ゴ Pro W3"/>
              </a:rPr>
              <a:t>LE GROUPE SOCRED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Eurostile"/>
                <a:ea typeface="ヒラギノ角ゴ Pro W3"/>
              </a:rPr>
              <a:t>La Banque SOCREDO poursuit son développement au travers de plusieurs filiales intervenant en complément technique de ses métiers, maîtrisant ainsi la monétique, l’éditique, l’archivage et la gestion de données, la gestion de portefeuille et la relation client au travers de sociétés devenues à leur tour leader, chacune dans leurs domaines de compétence (OSB, ODI, OFINA, OCA, OCSD).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Image 7" descr="FOND2.jpg"/>
          <p:cNvPicPr/>
          <p:nvPr/>
        </p:nvPicPr>
        <p:blipFill>
          <a:blip r:embed="rId1"/>
          <a:stretch/>
        </p:blipFill>
        <p:spPr>
          <a:xfrm>
            <a:off x="0" y="1440"/>
            <a:ext cx="5329080" cy="5713560"/>
          </a:xfrm>
          <a:prstGeom prst="rect">
            <a:avLst/>
          </a:prstGeom>
          <a:ln w="0">
            <a:noFill/>
          </a:ln>
        </p:spPr>
      </p:pic>
      <p:sp>
        <p:nvSpPr>
          <p:cNvPr id="574" name="Text Box 4"/>
          <p:cNvSpPr/>
          <p:nvPr/>
        </p:nvSpPr>
        <p:spPr>
          <a:xfrm>
            <a:off x="2538000" y="4454640"/>
            <a:ext cx="28249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Eurostile"/>
              </a:rPr>
              <a:t>Banque SOCRE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Eurostile"/>
              </a:rPr>
              <a:t>115 rue Dumont d’Urville - BP 130 - 98713 Papeete RP</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Eurostile"/>
              </a:rPr>
              <a:t>Tahiti - Polynésie française</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Eurostile"/>
              </a:rPr>
              <a:t>Tél. : (689) 41 51 23 - Fax : (689) 41 52 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Eurostile"/>
              </a:rPr>
              <a:t>Email : dirgen@bank-socredo.pf - Site internet : www.websoc.pf</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Eurostile"/>
              </a:rPr>
              <a:t>SAEM au capital de 22 milliards F CFP</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Eurostile"/>
              </a:rPr>
              <a:t>RCS TPI 59 1 B Papeete - N° Tahiti 0753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pic>
        <p:nvPicPr>
          <p:cNvPr id="575" name="Image 6" descr="LOGO3.jpg"/>
          <p:cNvPicPr/>
          <p:nvPr/>
        </p:nvPicPr>
        <p:blipFill>
          <a:blip r:embed="rId2"/>
          <a:stretch/>
        </p:blipFill>
        <p:spPr>
          <a:xfrm>
            <a:off x="1378080" y="30240"/>
            <a:ext cx="3897360" cy="4356000"/>
          </a:xfrm>
          <a:prstGeom prst="rect">
            <a:avLst/>
          </a:prstGeom>
          <a:ln w="0">
            <a:noFill/>
          </a:ln>
        </p:spPr>
      </p:pic>
      <p:sp>
        <p:nvSpPr>
          <p:cNvPr id="576" name="Rectangle 14"/>
          <p:cNvSpPr/>
          <p:nvPr/>
        </p:nvSpPr>
        <p:spPr>
          <a:xfrm>
            <a:off x="1440" y="5348160"/>
            <a:ext cx="5327640" cy="221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7" name="Picture 12" descr="O:\00_ADMINISTRATIF\logo\LOGO SOC + SIGN FR RVB.jpg"/>
          <p:cNvPicPr/>
          <p:nvPr/>
        </p:nvPicPr>
        <p:blipFill>
          <a:blip r:embed="rId3"/>
          <a:stretch/>
        </p:blipFill>
        <p:spPr>
          <a:xfrm>
            <a:off x="2514600" y="6448320"/>
            <a:ext cx="2590920" cy="862200"/>
          </a:xfrm>
          <a:prstGeom prst="rect">
            <a:avLst/>
          </a:prstGeom>
          <a:ln w="0">
            <a:noFill/>
          </a:ln>
        </p:spPr>
      </p:pic>
      <p:sp>
        <p:nvSpPr>
          <p:cNvPr id="578" name="Rectangle 13"/>
          <p:cNvSpPr/>
          <p:nvPr/>
        </p:nvSpPr>
        <p:spPr>
          <a:xfrm>
            <a:off x="3040200" y="7412040"/>
            <a:ext cx="2284200" cy="152280"/>
          </a:xfrm>
          <a:prstGeom prst="rect">
            <a:avLst/>
          </a:prstGeom>
          <a:solidFill>
            <a:srgbClr val="6fac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3:31:50Z</dcterms:created>
  <dc:creator>PURAVET SEBASTIEN</dc:creator>
  <dc:description/>
  <dc:language>en-US</dc:language>
  <cp:lastModifiedBy>PurS</cp:lastModifiedBy>
  <dcterms:modified xsi:type="dcterms:W3CDTF">2011-01-26T19:40:35Z</dcterms:modified>
  <cp:revision>92</cp:revision>
  <dc:subject/>
  <dc:title>BANQUE SOCREDO</dc:title>
</cp:coreProperties>
</file>